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9.jpeg" ContentType="image/jpeg"/>
  <Override PartName="/ppt/media/image8.jpeg" ContentType="image/jpeg"/>
  <Override PartName="/ppt/media/image28.png" ContentType="image/png"/>
  <Override PartName="/ppt/media/image13.jpeg" ContentType="image/jpeg"/>
  <Override PartName="/ppt/media/image5.jpeg" ContentType="image/jpeg"/>
  <Override PartName="/ppt/media/image32.jpeg" ContentType="image/jpeg"/>
  <Override PartName="/ppt/media/image35.png" ContentType="image/png"/>
  <Override PartName="/ppt/media/image7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4E9-AB89-4B38-9702-658F9F13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7C6-9576-4BFD-A2E5-40206CB4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6C5-4639-478B-8C49-DA207428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D8A-3144-41A8-AF1E-03620E82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6B1F-1333-4318-AAD9-EB820576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B852-1930-4EA3-9C49-D2CFD16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7666-3F84-4815-84FE-D4D48E7E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FACF-A43C-4D8C-B553-665F5B5D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FFC2-433B-4C94-BCCF-59EE2470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3958-9B7E-46DF-A93A-97799638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1DED-56EC-4203-8433-5A4E057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8B7-A846-48AC-A02A-B630C834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7B3E-05FF-4CB5-9A6F-14286465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457E-7E6A-4FC3-88EB-BC373F30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CFF5-6360-4F0C-B504-FEE076C7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AB57-6D3F-4B1E-878E-88284523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C3F4-7E7C-4E48-82F3-C36DFBA4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9016-C3F5-42C9-80EF-3D265C09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0EB5-941D-4EAC-A7E2-587DF395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CE03-1775-459F-AFEF-A54D45D5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C4DB-B807-4AFC-B5CB-9EB564CB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584E-7E0F-4A9F-8E11-4F5D8CB2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754-CEF3-47BA-9F34-B0D872B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13B1-3A20-4854-AC1B-26A7E3FA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4298F-CA52-45AF-A135-EAF64DD8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1431-FC4F-4B67-91B5-8BD0AB11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7BFC-97E4-490B-AE6E-40D41E0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E182F-874C-4E1F-8A32-13ACA430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9DD0-86BE-4121-8941-589AE3A9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AC07-45FF-4B20-B0DE-E5E7CF7C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E9B76-BC37-4B50-880B-DE45269A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DD85-4F1A-463A-87F4-35A8D9BE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85C40-27FA-4904-BB37-B04E651C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0C0-37B9-4E5C-829F-A5049EBB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9C15-44E1-4172-A7C5-6FF0CA92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600AB-6B29-4A7C-B9C3-F60740C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9A43-52FD-4CD2-B5B7-A3F60C1B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D448C-4F6B-4658-A54A-CF1CE63C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1D2D-17B9-4896-9E14-5FF0CF46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256F-61E0-42EF-A4B8-7AFE2268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FE684-5B33-4CDB-8CB2-660FD138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A34CA-37E6-40D1-A865-52FBA319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69879-E84E-4686-9EE1-627C639F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2092-BB5F-4C57-A590-8DED63E0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F6D-D067-4DCD-A29F-8662E6CD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38ADC-034E-4D57-B59B-38D13649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EDE55-76EC-49AE-9A38-E43BC266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05DF-C401-4FBC-A1D1-0E2EED08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FC3CD-7C45-4670-A1C3-883F19BC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8C102-0D4E-454B-946E-DE708CD1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6AA13-3C00-4C92-A6CE-50DE179C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78501-1F27-4DDC-A3AB-F5B08E8E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B4D2-F8B7-43C8-9691-E428E64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EEE43-669B-4A04-A399-AAD9419F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EF2C2-943B-471F-BD27-E5A3428D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B5E-C334-4397-A486-FFA03D24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E3CC-BB4A-4F6A-BA02-4D640993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50E-FDB5-4478-9379-BC1121C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56F-6CD1-44F0-BE62-43CF103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64F-1652-4A86-9CC9-DB24F59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7EB5-7E3D-48BB-8635-B824F630F3C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C248-37E9-48DC-89F8-1878EA17461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5606-F2B6-4842-85BC-CBCBD1C249D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78CC-C609-49B1-ADC4-F1657D3380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89A8-9C45-4540-AEB4-21A7BE52CD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1830-190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History of English Litera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Perpetua"/>
              </a:rPr>
              <a:t>The Islamia University Bahawalpu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Perpetua"/>
              </a:rPr>
              <a:t>Bwn Campu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he Victorian Perio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(An Introduction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Crystal Pala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rected to display the exhibits of modern industry and science at the 1851 Great Exhibi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ne of the first buildings constructed according to modern architectural princip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uilding symbolized the triumphs of Victorian indust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0" name="Picture 4" descr="untitled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British Empi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y Between 1853 and 1880, large scale immigration to British colon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1857, Parliament took over the government of India and Queen Victoria became empress of Indi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y British people saw the expansion of empire as a moral responsibilit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issionaries spread Christianity in India, Asia, and Afri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3" name="Picture 4" descr="untitled"/>
          <p:cNvPicPr/>
          <p:nvPr/>
        </p:nvPicPr>
        <p:blipFill>
          <a:blip r:embed="rId1"/>
          <a:stretch/>
        </p:blipFill>
        <p:spPr>
          <a:xfrm>
            <a:off x="4721400" y="1600200"/>
            <a:ext cx="38923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ligious Debat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angelical movement emphasized spiritual transformation of the individual by conversion and a moral Christian lif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ir view of life was identical with Dissente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igh Church emphasized the importance of tradition, ritual, and author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Oxford Movement led by Newm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road Church was open to modern idea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6" name="Picture 4" descr="untitled"/>
          <p:cNvPicPr/>
          <p:nvPr/>
        </p:nvPicPr>
        <p:blipFill>
          <a:blip r:embed="rId1"/>
          <a:stretch/>
        </p:blipFill>
        <p:spPr>
          <a:xfrm>
            <a:off x="5943600" y="1371600"/>
            <a:ext cx="1460520" cy="2190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2"/>
          <p:cNvPicPr/>
          <p:nvPr/>
        </p:nvPicPr>
        <p:blipFill>
          <a:blip r:embed="rId2"/>
          <a:stretch/>
        </p:blipFill>
        <p:spPr>
          <a:xfrm>
            <a:off x="5940360" y="3943440"/>
            <a:ext cx="1454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Utilitarianis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rived from the ideas of Jeremy Bentham and his disciple James Mill, the father of John Stuart Mi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tionalist test of val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greatest good for the greatest numb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tilitarianism failed to recognize people’s spiritual nee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4" descr="untitled"/>
          <p:cNvPicPr/>
          <p:nvPr/>
        </p:nvPicPr>
        <p:blipFill>
          <a:blip r:embed="rId1"/>
          <a:stretch/>
        </p:blipFill>
        <p:spPr>
          <a:xfrm>
            <a:off x="5894280" y="1600200"/>
            <a:ext cx="1546200" cy="2190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2"/>
          <p:cNvPicPr/>
          <p:nvPr/>
        </p:nvPicPr>
        <p:blipFill>
          <a:blip r:embed="rId2"/>
          <a:stretch/>
        </p:blipFill>
        <p:spPr>
          <a:xfrm>
            <a:off x="5810400" y="4000680"/>
            <a:ext cx="171432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allenges to Religious Belief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cienc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xle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arwin- the Origin of Species and The Descent of M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igher Criticis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mination of the Bible as a mere text of hi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rce stud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olog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The Late Victorian Period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1870-1901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ecay of Victorian valu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ritish imperialis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oer W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rish ques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ismarck's Germany became a rival pow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nited States became a rival pow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conomic depression led to mass immigr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ocialis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1890’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reakdown of Victorian valu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od of melancho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esthetic move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beginning of the modern movement in literat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ubrey Beardsley’s drawing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se of George Moore and Max Beerboh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etry of Ernest Dows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Role of Wome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Woman Ques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hanging conditions of women’s work created by the Industrial Revolu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Factory Acts (1802-78) – regulations of the conditions of labor in mines and factor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Custody Act (1839) – gave a mother the right to petition the court for access to her minor children and custody of children under seven and later sixtee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Divorce and Matrimonial Causes Act – established a civil divorce cour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arried Women’s Property Acts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1" name="Picture 4" descr="untitled"/>
          <p:cNvPicPr/>
          <p:nvPr/>
        </p:nvPicPr>
        <p:blipFill>
          <a:blip r:embed="rId1"/>
          <a:stretch/>
        </p:blipFill>
        <p:spPr>
          <a:xfrm>
            <a:off x="5900760" y="1600200"/>
            <a:ext cx="1533600" cy="2190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untitled2"/>
          <p:cNvPicPr/>
          <p:nvPr/>
        </p:nvPicPr>
        <p:blipFill>
          <a:blip r:embed="rId2"/>
          <a:stretch/>
        </p:blipFill>
        <p:spPr>
          <a:xfrm>
            <a:off x="5897520" y="3943440"/>
            <a:ext cx="15400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Educational Opportunities for Women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irst women’s college established in 1848 in London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y the end of Victoria’s reign, women could take degrees at twelve university colleg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4" descr="untitled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orking Conditions for Wome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ad working conditions and underemployment drove thousands of women into prostitu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only occupation at which an unmarried middle-class woman could earn a living and maintain some claim to gentility was that of a governes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Picture 4" descr="untitled"/>
          <p:cNvPicPr/>
          <p:nvPr/>
        </p:nvPicPr>
        <p:blipFill>
          <a:blip r:embed="rId1"/>
          <a:stretch/>
        </p:blipFill>
        <p:spPr>
          <a:xfrm>
            <a:off x="5783400" y="1600200"/>
            <a:ext cx="1768320" cy="2190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untitled3"/>
          <p:cNvPicPr/>
          <p:nvPr/>
        </p:nvPicPr>
        <p:blipFill>
          <a:blip r:embed="rId2"/>
          <a:stretch/>
        </p:blipFill>
        <p:spPr>
          <a:xfrm>
            <a:off x="5005440" y="3943440"/>
            <a:ext cx="33242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Franklin Gothic Book"/>
              </a:rPr>
              <a:t>Important Aspects: A Time of Chang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London becomes most important city in Europ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opulation of London expands from two million to six mill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hift from ownership of land to modern urban econom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mpact of industrialis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crease in wealt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orld’s foremost imperial pow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Victorian people suffered from anxiety, a sense of being displaced persons in an age of technological advanc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Ink 4"/>
          <p:cNvSpPr/>
          <p:nvPr/>
        </p:nvSpPr>
        <p:spPr>
          <a:xfrm>
            <a:off x="5456160" y="42591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5156" y="11832"/>
                </a:moveTo>
                <a:lnTo>
                  <a:pt x="15156" y="1183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Victorian Women and the Hom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Victorian society was preoccupied with the very nature of wome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tected and enshrined within the home, her role was to create a place of peace where man could take refuge from the difficulties of modern lif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Picture 4" descr="untitled2"/>
          <p:cNvPicPr/>
          <p:nvPr/>
        </p:nvPicPr>
        <p:blipFill>
          <a:blip r:embed="rId1"/>
          <a:stretch/>
        </p:blipFill>
        <p:spPr>
          <a:xfrm>
            <a:off x="5873760" y="1600200"/>
            <a:ext cx="1587600" cy="2190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4"/>
          <p:cNvPicPr/>
          <p:nvPr/>
        </p:nvPicPr>
        <p:blipFill>
          <a:blip r:embed="rId2"/>
          <a:stretch/>
        </p:blipFill>
        <p:spPr>
          <a:xfrm>
            <a:off x="5900760" y="3943440"/>
            <a:ext cx="1533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iteracy,  Publication, and Read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y the end of the century, literacy was almost universa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mpulsory national education  required to the age of te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ue to technological advances, an  explosion of things to read, including newspapers, periodicals, and book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Growth of the periodica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ovels and short fiction were published in serial form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reading public expected literature to illuminate social problem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6" name="Picture 4" descr="untitled"/>
          <p:cNvPicPr/>
          <p:nvPr/>
        </p:nvPicPr>
        <p:blipFill>
          <a:blip r:embed="rId1"/>
          <a:stretch/>
        </p:blipFill>
        <p:spPr>
          <a:xfrm>
            <a:off x="4572000" y="121932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untitled2"/>
          <p:cNvPicPr/>
          <p:nvPr/>
        </p:nvPicPr>
        <p:blipFill>
          <a:blip r:embed="rId2"/>
          <a:stretch/>
        </p:blipFill>
        <p:spPr>
          <a:xfrm>
            <a:off x="6629400" y="1447920"/>
            <a:ext cx="2305080" cy="1657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untitled5"/>
          <p:cNvPicPr/>
          <p:nvPr/>
        </p:nvPicPr>
        <p:blipFill>
          <a:blip r:embed="rId3"/>
          <a:stretch/>
        </p:blipFill>
        <p:spPr>
          <a:xfrm>
            <a:off x="5867280" y="3429000"/>
            <a:ext cx="1905120" cy="2428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untitled"/>
          <p:cNvPicPr/>
          <p:nvPr/>
        </p:nvPicPr>
        <p:blipFill>
          <a:blip r:embed="rId4"/>
          <a:stretch/>
        </p:blipFill>
        <p:spPr>
          <a:xfrm>
            <a:off x="4343400" y="8381880"/>
            <a:ext cx="19051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Victorian Nove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novel was the dominant form in Victorian literature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ictorian novels seek to represent a large and comprehensive social world, with a variety of classes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ictorian novels are realistic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ajor theme is the place of the individual in society, the aspiration of the hero or heroine for love or social positio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protagonist’s search for fulfillment is emblematic of the human conditio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or the first time, women were major writers: the Brontes. Elizabeth Gaskell, George Eliot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The Victorian novel was a principal form of entertainment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2" name="Picture 4" descr="untitled4"/>
          <p:cNvPicPr/>
          <p:nvPr/>
        </p:nvPicPr>
        <p:blipFill>
          <a:blip r:embed="rId1"/>
          <a:stretch/>
        </p:blipFill>
        <p:spPr>
          <a:xfrm>
            <a:off x="4800600" y="1600200"/>
            <a:ext cx="1359000" cy="2190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untitled3"/>
          <p:cNvPicPr/>
          <p:nvPr/>
        </p:nvPicPr>
        <p:blipFill>
          <a:blip r:embed="rId2"/>
          <a:stretch/>
        </p:blipFill>
        <p:spPr>
          <a:xfrm>
            <a:off x="6400800" y="1752480"/>
            <a:ext cx="1282680" cy="2190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untitled2"/>
          <p:cNvPicPr/>
          <p:nvPr/>
        </p:nvPicPr>
        <p:blipFill>
          <a:blip r:embed="rId3"/>
          <a:stretch/>
        </p:blipFill>
        <p:spPr>
          <a:xfrm>
            <a:off x="6219720" y="7467480"/>
            <a:ext cx="2924280" cy="4524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untitled"/>
          <p:cNvPicPr/>
          <p:nvPr/>
        </p:nvPicPr>
        <p:blipFill>
          <a:blip r:embed="rId4"/>
          <a:stretch/>
        </p:blipFill>
        <p:spPr>
          <a:xfrm>
            <a:off x="4800600" y="4267080"/>
            <a:ext cx="1352520" cy="2229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untitled5"/>
          <p:cNvPicPr/>
          <p:nvPr/>
        </p:nvPicPr>
        <p:blipFill>
          <a:blip r:embed="rId5"/>
          <a:stretch/>
        </p:blipFill>
        <p:spPr>
          <a:xfrm>
            <a:off x="6553080" y="4191120"/>
            <a:ext cx="13716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Victorian Poet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Victorian poetry developed in the context of the novel. Poets sought new ways of telling stories in vers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ll of the Victorian poets show the strong influence of the Romantics, but they cannot sustain the confidence the Romantics felt in the power of the imagination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Victorian poets often rewrite Romantic poems with a sense of belatednes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ramatic monologue – the idea of creating a lyric poem in the voice of a speaker ironically distinct from the poet is the great achievement of Victorian poetry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Victorian poetry is pictorial; poets use detail to construct visual images that represent the emotion or situation the poem concerns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onflict t between private poetic self and public social role.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9" name="Picture 4" descr="untitled"/>
          <p:cNvPicPr/>
          <p:nvPr/>
        </p:nvPicPr>
        <p:blipFill>
          <a:blip r:embed="rId1"/>
          <a:stretch/>
        </p:blipFill>
        <p:spPr>
          <a:xfrm>
            <a:off x="7315200" y="914400"/>
            <a:ext cx="1428840" cy="2162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untitled6"/>
          <p:cNvPicPr/>
          <p:nvPr/>
        </p:nvPicPr>
        <p:blipFill>
          <a:blip r:embed="rId2"/>
          <a:stretch/>
        </p:blipFill>
        <p:spPr>
          <a:xfrm>
            <a:off x="7238880" y="3733920"/>
            <a:ext cx="1679760" cy="219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untitled"/>
          <p:cNvPicPr/>
          <p:nvPr/>
        </p:nvPicPr>
        <p:blipFill>
          <a:blip r:embed="rId3"/>
          <a:stretch/>
        </p:blipFill>
        <p:spPr>
          <a:xfrm>
            <a:off x="4648320" y="1219320"/>
            <a:ext cx="2476440" cy="3524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untitled"/>
          <p:cNvPicPr/>
          <p:nvPr/>
        </p:nvPicPr>
        <p:blipFill>
          <a:blip r:embed="rId4"/>
          <a:stretch/>
        </p:blipFill>
        <p:spPr>
          <a:xfrm>
            <a:off x="5105520" y="4572000"/>
            <a:ext cx="1761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Victorian Dram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heater was a flourishing and popular institution during the Victorian perio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opularity of theater influenced other genr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rnard Shaw and Oscar Wilde transformed British theater with their comic masterpiec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4" descr="untitled"/>
          <p:cNvPicPr/>
          <p:nvPr/>
        </p:nvPicPr>
        <p:blipFill>
          <a:blip r:embed="rId1"/>
          <a:stretch/>
        </p:blipFill>
        <p:spPr>
          <a:xfrm>
            <a:off x="5560920" y="1600200"/>
            <a:ext cx="2212920" cy="2190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untitled2"/>
          <p:cNvPicPr/>
          <p:nvPr/>
        </p:nvPicPr>
        <p:blipFill>
          <a:blip r:embed="rId2"/>
          <a:stretch/>
        </p:blipFill>
        <p:spPr>
          <a:xfrm>
            <a:off x="5875200" y="3943440"/>
            <a:ext cx="15843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feren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ritical History of English Literature by David Daich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Critical History of English Literature by Dr. Mulli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Norton Anthology of English Literature: Norton Topics Onl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Queen Victoria and the Victorian Temper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uled England from 1837-1901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emplifies Victorian qualities:  earnestness, moral responsibility, domestic proprie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ctorian Period was an age of transi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 age characterized by energy and high moral purpo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4" descr="untitled"/>
          <p:cNvPicPr/>
          <p:nvPr/>
        </p:nvPicPr>
        <p:blipFill>
          <a:blip r:embed="rId1"/>
          <a:stretch/>
        </p:blipFill>
        <p:spPr>
          <a:xfrm>
            <a:off x="4983120" y="1600200"/>
            <a:ext cx="3368880" cy="4533840"/>
          </a:xfrm>
          <a:prstGeom prst="rect">
            <a:avLst/>
          </a:prstGeom>
          <a:ln w="0">
            <a:noFill/>
          </a:ln>
        </p:spPr>
      </p:pic>
      <p:sp>
        <p:nvSpPr>
          <p:cNvPr id="236" name="Ink 5"/>
          <p:cNvSpPr/>
          <p:nvPr/>
        </p:nvSpPr>
        <p:spPr>
          <a:xfrm>
            <a:off x="3125880" y="5848200"/>
            <a:ext cx="61920" cy="98640"/>
          </a:xfrm>
          <a:custGeom>
            <a:avLst/>
            <a:gdLst/>
            <a:ahLst/>
            <a:rect l="l" t="t" r="r" b="b"/>
            <a:pathLst>
              <a:path w="174" h="274">
                <a:moveTo>
                  <a:pt x="8682" y="16247"/>
                </a:moveTo>
                <a:cubicBezTo>
                  <a:pt x="8682" y="16280"/>
                  <a:pt x="8682" y="16296"/>
                  <a:pt x="8682" y="16321"/>
                </a:cubicBezTo>
              </a:path>
              <a:path w="174" h="274">
                <a:moveTo>
                  <a:pt x="8781" y="16520"/>
                </a:moveTo>
                <a:cubicBezTo>
                  <a:pt x="8806" y="16520"/>
                  <a:pt x="8830" y="16520"/>
                  <a:pt x="8855" y="165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Ink 6"/>
          <p:cNvSpPr/>
          <p:nvPr/>
        </p:nvSpPr>
        <p:spPr>
          <a:xfrm>
            <a:off x="2678040" y="3054240"/>
            <a:ext cx="608040" cy="1919520"/>
          </a:xfrm>
          <a:custGeom>
            <a:avLst/>
            <a:gdLst/>
            <a:ahLst/>
            <a:rect l="l" t="t" r="r" b="b"/>
            <a:pathLst>
              <a:path w="1688" h="5334">
                <a:moveTo>
                  <a:pt x="7441" y="8483"/>
                </a:moveTo>
                <a:lnTo>
                  <a:pt x="7441" y="8483"/>
                </a:lnTo>
              </a:path>
              <a:path w="1688" h="5334">
                <a:moveTo>
                  <a:pt x="8979" y="13816"/>
                </a:moveTo>
                <a:lnTo>
                  <a:pt x="8979" y="13816"/>
                </a:lnTo>
              </a:path>
              <a:path w="1688" h="5334">
                <a:moveTo>
                  <a:pt x="9128" y="13816"/>
                </a:moveTo>
                <a:lnTo>
                  <a:pt x="9128" y="1381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Ink 7"/>
          <p:cNvSpPr/>
          <p:nvPr/>
        </p:nvSpPr>
        <p:spPr>
          <a:xfrm>
            <a:off x="1287360" y="4743360"/>
            <a:ext cx="3056040" cy="432000"/>
          </a:xfrm>
          <a:custGeom>
            <a:avLst/>
            <a:gdLst/>
            <a:ahLst/>
            <a:rect l="l" t="t" r="r" b="b"/>
            <a:pathLst>
              <a:path w="8487" h="1198">
                <a:moveTo>
                  <a:pt x="9576" y="13236"/>
                </a:moveTo>
                <a:cubicBezTo>
                  <a:pt x="9564" y="13242"/>
                  <a:pt x="9542" y="13234"/>
                  <a:pt x="9535" y="13248"/>
                </a:cubicBezTo>
                <a:cubicBezTo>
                  <a:pt x="9534" y="13250"/>
                  <a:pt x="9530" y="13255"/>
                  <a:pt x="9530" y="13256"/>
                </a:cubicBezTo>
                <a:cubicBezTo>
                  <a:pt x="9527" y="13269"/>
                  <a:pt x="9531" y="13269"/>
                  <a:pt x="9535" y="13280"/>
                </a:cubicBezTo>
                <a:cubicBezTo>
                  <a:pt x="9550" y="13316"/>
                  <a:pt x="9608" y="13328"/>
                  <a:pt x="9640" y="13338"/>
                </a:cubicBezTo>
                <a:cubicBezTo>
                  <a:pt x="9673" y="13349"/>
                  <a:pt x="9702" y="13352"/>
                  <a:pt x="9737" y="13352"/>
                </a:cubicBezTo>
                <a:cubicBezTo>
                  <a:pt x="9744" y="13352"/>
                  <a:pt x="9750" y="13351"/>
                  <a:pt x="9756" y="13351"/>
                </a:cubicBezTo>
                <a:cubicBezTo>
                  <a:pt x="9772" y="13350"/>
                  <a:pt x="9780" y="13348"/>
                  <a:pt x="9791" y="13345"/>
                </a:cubicBezTo>
                <a:cubicBezTo>
                  <a:pt x="9800" y="13343"/>
                  <a:pt x="9807" y="13337"/>
                  <a:pt x="9816" y="13335"/>
                </a:cubicBezTo>
                <a:cubicBezTo>
                  <a:pt x="9824" y="13333"/>
                  <a:pt x="9831" y="13330"/>
                  <a:pt x="9839" y="13328"/>
                </a:cubicBezTo>
                <a:cubicBezTo>
                  <a:pt x="9842" y="13327"/>
                  <a:pt x="9845" y="13327"/>
                  <a:pt x="9849" y="13326"/>
                </a:cubicBezTo>
                <a:cubicBezTo>
                  <a:pt x="9856" y="13324"/>
                  <a:pt x="9864" y="13319"/>
                  <a:pt x="9872" y="13317"/>
                </a:cubicBezTo>
                <a:cubicBezTo>
                  <a:pt x="9887" y="13314"/>
                  <a:pt x="9903" y="13312"/>
                  <a:pt x="9919" y="13310"/>
                </a:cubicBezTo>
                <a:cubicBezTo>
                  <a:pt x="9937" y="13307"/>
                  <a:pt x="9956" y="13304"/>
                  <a:pt x="9975" y="13302"/>
                </a:cubicBezTo>
                <a:cubicBezTo>
                  <a:pt x="9997" y="13300"/>
                  <a:pt x="10019" y="13301"/>
                  <a:pt x="10041" y="13300"/>
                </a:cubicBezTo>
                <a:cubicBezTo>
                  <a:pt x="10110" y="13297"/>
                  <a:pt x="10179" y="13297"/>
                  <a:pt x="10248" y="13295"/>
                </a:cubicBezTo>
                <a:cubicBezTo>
                  <a:pt x="10320" y="13293"/>
                  <a:pt x="10392" y="13290"/>
                  <a:pt x="10463" y="13281"/>
                </a:cubicBezTo>
                <a:cubicBezTo>
                  <a:pt x="10555" y="13270"/>
                  <a:pt x="10646" y="13260"/>
                  <a:pt x="10738" y="13250"/>
                </a:cubicBezTo>
                <a:cubicBezTo>
                  <a:pt x="10843" y="13239"/>
                  <a:pt x="10948" y="13228"/>
                  <a:pt x="11053" y="13220"/>
                </a:cubicBezTo>
                <a:cubicBezTo>
                  <a:pt x="11094" y="13217"/>
                  <a:pt x="11136" y="13210"/>
                  <a:pt x="11177" y="13210"/>
                </a:cubicBezTo>
                <a:cubicBezTo>
                  <a:pt x="11238" y="13209"/>
                  <a:pt x="11298" y="13208"/>
                  <a:pt x="11359" y="13203"/>
                </a:cubicBezTo>
                <a:cubicBezTo>
                  <a:pt x="11393" y="13200"/>
                  <a:pt x="11427" y="13198"/>
                  <a:pt x="11460" y="13195"/>
                </a:cubicBezTo>
                <a:cubicBezTo>
                  <a:pt x="11531" y="13190"/>
                  <a:pt x="11604" y="13184"/>
                  <a:pt x="11675" y="13186"/>
                </a:cubicBezTo>
                <a:cubicBezTo>
                  <a:pt x="11704" y="13187"/>
                  <a:pt x="11733" y="13189"/>
                  <a:pt x="11762" y="13190"/>
                </a:cubicBezTo>
                <a:cubicBezTo>
                  <a:pt x="11792" y="13191"/>
                  <a:pt x="11820" y="13187"/>
                  <a:pt x="11849" y="13185"/>
                </a:cubicBezTo>
                <a:cubicBezTo>
                  <a:pt x="11901" y="13181"/>
                  <a:pt x="11954" y="13181"/>
                  <a:pt x="12006" y="13181"/>
                </a:cubicBezTo>
                <a:cubicBezTo>
                  <a:pt x="12015" y="13181"/>
                  <a:pt x="12029" y="13187"/>
                  <a:pt x="12035" y="13187"/>
                </a:cubicBezTo>
                <a:cubicBezTo>
                  <a:pt x="12039" y="13187"/>
                  <a:pt x="12039" y="13183"/>
                  <a:pt x="12041" y="13183"/>
                </a:cubicBezTo>
                <a:cubicBezTo>
                  <a:pt x="12042" y="13182"/>
                  <a:pt x="12044" y="13181"/>
                  <a:pt x="12045" y="13180"/>
                </a:cubicBezTo>
                <a:cubicBezTo>
                  <a:pt x="12052" y="13183"/>
                  <a:pt x="12057" y="13184"/>
                  <a:pt x="12064" y="13186"/>
                </a:cubicBezTo>
                <a:cubicBezTo>
                  <a:pt x="12055" y="13183"/>
                  <a:pt x="12046" y="13179"/>
                  <a:pt x="12037" y="13176"/>
                </a:cubicBezTo>
              </a:path>
              <a:path w="8487" h="1198">
                <a:moveTo>
                  <a:pt x="3795" y="14373"/>
                </a:moveTo>
                <a:cubicBezTo>
                  <a:pt x="3795" y="14366"/>
                  <a:pt x="3791" y="14369"/>
                  <a:pt x="3793" y="14360"/>
                </a:cubicBezTo>
                <a:cubicBezTo>
                  <a:pt x="3796" y="14346"/>
                  <a:pt x="3840" y="14304"/>
                  <a:pt x="3816" y="14285"/>
                </a:cubicBezTo>
                <a:cubicBezTo>
                  <a:pt x="3808" y="14279"/>
                  <a:pt x="3794" y="14275"/>
                  <a:pt x="3779" y="14271"/>
                </a:cubicBezTo>
                <a:cubicBezTo>
                  <a:pt x="3727" y="14257"/>
                  <a:pt x="3643" y="14296"/>
                  <a:pt x="3593" y="14308"/>
                </a:cubicBezTo>
                <a:cubicBezTo>
                  <a:pt x="3586" y="14310"/>
                  <a:pt x="3589" y="14310"/>
                  <a:pt x="3582" y="14312"/>
                </a:cubicBezTo>
                <a:cubicBezTo>
                  <a:pt x="3584" y="14312"/>
                  <a:pt x="3583" y="14313"/>
                  <a:pt x="3591" y="14312"/>
                </a:cubicBezTo>
                <a:cubicBezTo>
                  <a:pt x="3639" y="14305"/>
                  <a:pt x="3684" y="14298"/>
                  <a:pt x="3733" y="14288"/>
                </a:cubicBezTo>
                <a:cubicBezTo>
                  <a:pt x="3775" y="14279"/>
                  <a:pt x="3818" y="14268"/>
                  <a:pt x="3860" y="14262"/>
                </a:cubicBezTo>
                <a:cubicBezTo>
                  <a:pt x="3954" y="14248"/>
                  <a:pt x="4048" y="14241"/>
                  <a:pt x="4143" y="14234"/>
                </a:cubicBezTo>
                <a:cubicBezTo>
                  <a:pt x="4244" y="14226"/>
                  <a:pt x="4346" y="14223"/>
                  <a:pt x="4447" y="14215"/>
                </a:cubicBezTo>
                <a:cubicBezTo>
                  <a:pt x="5036" y="14169"/>
                  <a:pt x="5619" y="14123"/>
                  <a:pt x="6211" y="14112"/>
                </a:cubicBezTo>
                <a:cubicBezTo>
                  <a:pt x="6567" y="14105"/>
                  <a:pt x="6922" y="14098"/>
                  <a:pt x="7278" y="14092"/>
                </a:cubicBezTo>
                <a:cubicBezTo>
                  <a:pt x="7698" y="14085"/>
                  <a:pt x="8118" y="14104"/>
                  <a:pt x="8538" y="14113"/>
                </a:cubicBezTo>
                <a:cubicBezTo>
                  <a:pt x="8853" y="14119"/>
                  <a:pt x="9171" y="14129"/>
                  <a:pt x="9485" y="14113"/>
                </a:cubicBezTo>
                <a:cubicBezTo>
                  <a:pt x="9495" y="14113"/>
                  <a:pt x="9500" y="14113"/>
                  <a:pt x="9504" y="14113"/>
                </a:cubicBezTo>
                <a:cubicBezTo>
                  <a:pt x="9508" y="14113"/>
                  <a:pt x="9491" y="14109"/>
                  <a:pt x="9495" y="141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Ink 8"/>
          <p:cNvSpPr/>
          <p:nvPr/>
        </p:nvSpPr>
        <p:spPr>
          <a:xfrm>
            <a:off x="5616720" y="5483160"/>
            <a:ext cx="349200" cy="517680"/>
          </a:xfrm>
          <a:custGeom>
            <a:avLst/>
            <a:gdLst/>
            <a:ahLst/>
            <a:rect l="l" t="t" r="r" b="b"/>
            <a:pathLst>
              <a:path w="969" h="1440">
                <a:moveTo>
                  <a:pt x="16570" y="15230"/>
                </a:moveTo>
                <a:lnTo>
                  <a:pt x="16570" y="15230"/>
                </a:lnTo>
              </a:path>
              <a:path w="969" h="1440">
                <a:moveTo>
                  <a:pt x="15602" y="16669"/>
                </a:moveTo>
                <a:cubicBezTo>
                  <a:pt x="15602" y="16661"/>
                  <a:pt x="15602" y="16652"/>
                  <a:pt x="15602" y="16644"/>
                </a:cubicBezTo>
              </a:path>
              <a:path w="969" h="1440">
                <a:moveTo>
                  <a:pt x="15602" y="16346"/>
                </a:moveTo>
                <a:lnTo>
                  <a:pt x="15602" y="16346"/>
                </a:lnTo>
              </a:path>
              <a:path w="969" h="1440">
                <a:moveTo>
                  <a:pt x="15602" y="16346"/>
                </a:moveTo>
                <a:cubicBezTo>
                  <a:pt x="15610" y="16346"/>
                  <a:pt x="15619" y="16346"/>
                  <a:pt x="15627" y="163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Ink 9"/>
          <p:cNvSpPr/>
          <p:nvPr/>
        </p:nvSpPr>
        <p:spPr>
          <a:xfrm>
            <a:off x="5929200" y="5483160"/>
            <a:ext cx="36720" cy="9720"/>
          </a:xfrm>
          <a:custGeom>
            <a:avLst/>
            <a:gdLst/>
            <a:ahLst/>
            <a:rect l="l" t="t" r="r" b="b"/>
            <a:pathLst>
              <a:path w="101" h="26">
                <a:moveTo>
                  <a:pt x="16470" y="15255"/>
                </a:moveTo>
                <a:cubicBezTo>
                  <a:pt x="16495" y="15255"/>
                  <a:pt x="16503" y="15255"/>
                  <a:pt x="16520" y="15255"/>
                </a:cubicBezTo>
                <a:cubicBezTo>
                  <a:pt x="16532" y="15220"/>
                  <a:pt x="16527" y="15230"/>
                  <a:pt x="16570" y="1523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Georgian Period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911-1936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reaction against the achievements of the Victorian Perio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4" descr="untitled2"/>
          <p:cNvPicPr/>
          <p:nvPr/>
        </p:nvPicPr>
        <p:blipFill>
          <a:blip r:embed="rId1"/>
          <a:stretch/>
        </p:blipFill>
        <p:spPr>
          <a:xfrm>
            <a:off x="5867280" y="2514600"/>
            <a:ext cx="19051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The Early Victorian Period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1830-1848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 1830, the Liverpool and Manchester Railway opened, the first public railway line in the world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y 1850, railway lines connected England’s major citi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y 1900 , England had 15,195 lines of railroad and an underground rail system beneath Lond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train transformed  England’s landscape, supported the growth of commerce, and shrank the distance between cit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untitled"/>
          <p:cNvPicPr/>
          <p:nvPr/>
        </p:nvPicPr>
        <p:blipFill>
          <a:blip r:embed="rId1"/>
          <a:stretch/>
        </p:blipFill>
        <p:spPr>
          <a:xfrm>
            <a:off x="5000760" y="2619360"/>
            <a:ext cx="3333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Reform Bill of 1832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ransformed English class structu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xtended the right to vote to all males owning proper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econd Reform Bill passed in 1867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xtended right to vote to working clas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Picture 4" descr="untitled"/>
          <p:cNvPicPr/>
          <p:nvPr/>
        </p:nvPicPr>
        <p:blipFill>
          <a:blip r:embed="rId1"/>
          <a:stretch/>
        </p:blipFill>
        <p:spPr>
          <a:xfrm>
            <a:off x="5715000" y="2747880"/>
            <a:ext cx="19051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The Time of Troubles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1830’s and 1840’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nemploy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overty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io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lums in large cit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orking conditions for women and children were terribl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4" descr="untitled 2"/>
          <p:cNvPicPr/>
          <p:nvPr/>
        </p:nvPicPr>
        <p:blipFill>
          <a:blip r:embed="rId1"/>
          <a:stretch/>
        </p:blipFill>
        <p:spPr>
          <a:xfrm>
            <a:off x="5103720" y="1600200"/>
            <a:ext cx="3127320" cy="2190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untitled"/>
          <p:cNvPicPr/>
          <p:nvPr/>
        </p:nvPicPr>
        <p:blipFill>
          <a:blip r:embed="rId2"/>
          <a:stretch/>
        </p:blipFill>
        <p:spPr>
          <a:xfrm>
            <a:off x="5238720" y="408636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act on Victorian Litera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novelists of the 1840’s and the 1850’s responded to the industrial and political scen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harles Kingsley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The Water Bab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lizabeth Gaskell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North and South; Life of Charlotte Bro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njamin Disraeli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erpetua"/>
              </a:rPr>
              <a:t>Syb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The Mid-Victorian Period</a:t>
            </a:r>
            <a:br>
              <a:rPr sz="3600"/>
            </a:b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1848-1870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time of prosper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time of improv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time of stabi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time of optimis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17:27:26Z</dcterms:created>
  <dc:creator>Sue Johnston</dc:creator>
  <dc:description/>
  <dc:language>en-US</dc:language>
  <cp:lastModifiedBy>ALM</cp:lastModifiedBy>
  <dcterms:modified xsi:type="dcterms:W3CDTF">2020-03-26T09:25:43Z</dcterms:modified>
  <cp:revision>20</cp:revision>
  <dc:subject/>
  <dc:title>The Victorian Period</dc:title>
</cp:coreProperties>
</file>